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D57-E870-4D48-A45C-E126A182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4F89-5947-4DAA-B622-756BA290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726A-CB26-4219-80D0-72798FE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9889-4935-4D90-A1DE-F1E7704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5466-037D-4201-BAC5-97C81FAD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CBD9-3EEF-4376-9515-95097574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C018-84F0-48D1-8F1A-14BE0E6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5562-40BE-4ADC-BDD1-8E076CFD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AB20-D86B-4888-98A8-11C2F25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1228-7343-4ED2-838D-91B6DE2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E72F-2B6B-4751-8DDF-EFE9B474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C02B-736B-46BF-A4D3-F1F5349E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CAA7-C738-48C7-AA06-E6061B9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732D-600A-47C6-ABD4-73BBAFE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89A1-CBBB-4338-AEF4-1E4626E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FC71-4D38-40B5-99A5-EBB596F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F2C-A120-4A55-A939-6D4D54E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8A5-0FE6-4771-8161-953B7DC3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33E5-F32E-4D3A-A736-2CA94085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BEF7-EBE0-4585-B5B7-118F9C1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47BD-6AF6-4670-ABB3-E88FCA7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C954-A954-4DDF-9BD6-8A0DA94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BB4C-EE18-4986-A245-B7DD7EB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5A82-CD46-46C6-B805-48F7B9E5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6E96-0767-4B73-9DAF-273B262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F338-42AC-43EA-B3F2-1690651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7055-469E-43DB-B163-49C0B452C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7B2D-516C-4B8D-A952-08E4A2F25B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hibit shipments of products not meeting minimum standards for grade, size and matu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uce quantity available in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marketing, lower transactions costs, improve marketing efficiency, allow product differenti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increase demand due to increased buyer certainty and repeat s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so apply to some imported products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y act as non-tariff barriers to tr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e Discr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ws allocation of shipments among primary and secondary marke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ith different prices and demand character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:  US and export market for rais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depend on demand elastic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venues increased if inelas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serve Po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ithholds supply from the market is supply is “large” relative to dem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eld “in reserve” if market conditions impr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not, sale to secondary markets, for non-food use or held as carryover sto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 in MOs for CA walnuts, dates, almonds, Florida citrus, but not i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rket Flow Provis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signed to “smooth” shipments during a marketing seas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t not affect total volu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t currently in 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about impacts is lim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tcomes similar to perfectly competitive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ack and Container Standard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re buyers of shipment consistenc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reduce marketing costs through efficient product hand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price report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nhan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erfectly competitive markets effici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defin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can be viewed as interventions to correct perceived market imperfec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modify operational rules and conduct of fi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nded outcomes: “Orderly marketing”, increased price stability, enhan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evious studies address combined provisions or individual on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Key criteria include trade-offs in efficiency gains and losses, other social go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ults not definitive; depend on effects of MOs, substitution in consumption and risk avers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criteria required for global fruit, vegetable and tree nut supply chai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rm conduct and consumer 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riteria should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echnical, allocative, dynamic efficiency and nonmarket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about these impacts from previous stud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 and inconclus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may provide incentives for innovation in quality contr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lson et al. (200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thers argue that incentives are reduc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limited use of shrink wrap for lemons, grading mechanisms for pru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ederal and State Marketing Or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les F. Nichol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el S. Pag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, extant studies illustrative, not definit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fficiency gains for pistachi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y et al., (200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ains from reduced volume and price swings (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Zepp and Powers,19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cent studies suggest no universal conclusion is poss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of impacts, but existing studies suggest that increased returns to growers reduce consumer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response and time frame for the analysis can imply that impacts are indetermin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arded as the most complex of a suite of US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storical context includes severe market disruptions (milk strikes) and inst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overnment action codified private actions previously attempted by dairy cooper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ing of milk by class (us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ordination of prices across (geographic) marke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ponents in milk (e.g., fat, protein) assigned to a “class” based o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deral Orders have 4 clas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lifornia state Order has 5, but similar prov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set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prices that “first handlers” (processors) must p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ctual prices paid are higher; “over-order” prem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es set based on recent product prices, adjusted for manufacturing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ational pricing for manufactured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gional pricing for fluid milk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luid milk has highest regulated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nly fluid milk processors are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quire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o participate (pay the minimum pric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other manufacturers of dairy products find it advantageous to do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nhances price they can pay to dairy farmer suppli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alue of the milk marketed shared among producers supplying a marketing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lend Price” is the total value of milk components divided by the volume of milk marketed through the Ord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s variation in price received among producers in a given mark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s allow auditing of milk use reported by handl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pecifics vary, but 2/3 vote required for amendment or el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hearing requ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ope and impact changed over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arly, limited number of Orders and small proportion of milk cove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2000, about 92% of US milk reg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olidation with improvements in transportation and process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rders reduced to 10 as of 20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ed in 1930s under Agricultural Marketing Agreement Act (193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egal instrument issued by 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iginal objectives: “orderly marketing” and establishment of parity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rity” concept since abando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ther fundamental statutory provisions have remained the same since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average prices paid decreasing over time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r growth of milk used in manufacturing rather than flui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er proportion of milk paying higher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 paid for fluid versus manufacturing milk smaller as proportion of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y studies have examined, but limited consensus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underlying markets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ractions with other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mptions about elastici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se of comparative static rather than dynamic frame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If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arkets are competitive,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average prices paid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total milk production and dairy farmer reven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price paid for fluid milk, but decrease dairy product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 social welfare (surplus measur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ilk markets are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termination not easy after 70+ years of reg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ny analysts assert but do not sh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not competitive, do dairy cooperatives have offsetting market powe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vidence is inconclusive, and some suggest cooperatives need Orders to function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study for dairy farms, processing firms, food retailer (i.e., supply chai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industry structure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provide incentives for production in higher cost areas and conversion to Grade A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analysis indicates that Orders could facilitate farm growth and lower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urrent Order pricing broadly consistent with least-cost spatial equilibrium models of US dairy sect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ve inefficiency a key criticis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investment in milk production, for Grade A and in higher cos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costly milk transportation for poo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reconstituted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on of milk to highest value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ransfers from consumer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ional redistribution for producers based on class util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wer prices and revenues in regions with much manufacturing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 of fluid products negatively affected, potential benefits for households consuming manufactured produc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ynamic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supply chain evolution and costs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tions in price vari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management may be facilita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act on forward contracting a concern before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product innovation uncertai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change, but too slowly for so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Market Benefits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” impacts may exist on nutrition, health, rural development, animal welfare and social just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t well studied; more research nee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maller, less favorably located farms may benefit more from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istribution a social justice issu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modities covered include milk and 22 fruits, vegetables, nuts and specialty cro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similarities of commodities covered by marketing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gree of perishability and storabi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volatility and price ine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rimination possib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all, evidence suggests that Orders have accomplished many of the objectives Congress inten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ttempts to change Orders must balance issue of inefficiencies and restraints on competition with unique nature of the agricultural business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licy options for Order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or the sake of completene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dify Orders to address industry and market chang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 or 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can be assessed (at least to some extent) with existing research ba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hased versus immediate elimination impacts less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stitutional arrangements for milk Orders would influence outco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xtend current commodity programs to those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 new programs with similar objectives for Order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bjectives of current programs differ from those of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ny “replacement” will be an imperfect substit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ment” is a misnomer for milk, given numerous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ither is likely in current political and economic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odify Orders with Industry and Market Chan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not require major changes for fruits, vegetables and tree nu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dditional emphasis on food safety and less emphasis on volume contr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anges to milk Orders challenging given current winners and los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need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sic response information (elasticiti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 impacts under-resear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impacts a prio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overy, risk management options, organizational and institutional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potential for collaboration among industry as a replacement for Order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apply to specific commodities produced in a specific geographic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posed by producer group, but USDA makes determination of ne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lemented if 2/3 of eligible producers or production vote in fav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inding on ALL handlers once approv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tabilize” market conditions through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s on amount marke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trol and disposition of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standards and inspec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packa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earch and promotion on production, marketing, distribution or consum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 2011, 32 federal marketing Orders for about 20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rm value of regulated crops about $6 billion in 2007-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5% of farm receipts from crop s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rketing Order Administration Branch of Fruit and Vegetable Program of USDA provides overall administ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oth for provisions for all Orders and individual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40s to 1960s: greater restrictions on quality, maturity, rate of fl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70s:  Handler assessments authorized, but growing public concern and reviews of benefits and shortcomin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dividual Orders give more attention to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specially related to grades and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flatoxin in pistachios, salmonella in alm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olution of Orders likely to continue, especially to address food safety iss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e cooperation between USDA and FDA lik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3T19:48:48Z</dcterms:modified>
  <cp:revision>61</cp:revision>
  <dc:subject/>
  <dc:title>U.S. Policies Affecting Food and Agricultural Marketing</dc:title>
</cp:coreProperties>
</file>